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504E-37AF-4F89-82B6-3D20FE339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8CF6-E4AB-4707-BBEC-28567EF7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987D-D9AD-43F5-A80A-FC5212C8B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DBDA-9194-4103-BD3A-DBD91B35F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DC07-D437-4E43-9AC5-1BAFE4CB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30D8-23C0-4496-8810-C5EDAFAD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3958-774B-4458-8F88-826967C7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41CC-C6DA-46FD-B58C-EBB38EDE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A279-916B-4E1E-9ECF-78785E82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4AA6-2B0B-4FBE-87D5-A9483186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7A6A-F551-441C-817A-07F6EDF9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FB2C-3BBD-42A7-BDED-9673DD32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9E77-4A13-4E13-885A-12C4A0BE0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ligraph421 BT"/>
              </a:rPr>
              <a:t>Chinese New Year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ligraph421 BT"/>
              </a:rPr>
              <a:t>20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78400" y="3733920"/>
            <a:ext cx="2084400" cy="2666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62120" y="4191120"/>
            <a:ext cx="30477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nese New Y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ese New Year starts with the New Moon on the first day of the new year and ends on the full moon 15 days l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year is represented by an animal on the Chinese Zodi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nese Zodi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ebruary 3, 2011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ear of the Rabb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rding to Chinese tradition, th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Rabb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s a year in which you can catch your breath and calm your nerves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562720" y="3886200"/>
            <a:ext cx="2590560" cy="1940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219320" y="3809880"/>
            <a:ext cx="274320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rag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rt of Chinese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ly used for decorative purp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ese once believed they were decedents of drag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95280" y="4176720"/>
            <a:ext cx="2133720" cy="1442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43600" y="3809880"/>
            <a:ext cx="227664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14:42:19Z</dcterms:created>
  <dc:creator>Patrick J. Mooney</dc:creator>
  <dc:description/>
  <dc:language>en-US</dc:language>
  <cp:lastModifiedBy>Patrick J. Mooney</cp:lastModifiedBy>
  <dcterms:modified xsi:type="dcterms:W3CDTF">2011-02-01T14:59:34Z</dcterms:modified>
  <cp:revision>1</cp:revision>
  <dc:subject/>
  <dc:title>Chinese New Year  2011</dc:title>
</cp:coreProperties>
</file>